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18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5240-C2B2-49DE-8613-39EB55C1CE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A76F-709E-4530-BD7A-09568D1FB4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E73C-FE56-44D4-B59A-1DAD422B4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7444-DAED-4FC8-9847-D9DE2842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8D67-D549-4089-B340-CD5506094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DA42-7628-4B6E-B0AF-04803E220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CCDF-5C13-43FA-B65B-46029A71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EF2B-749D-4E52-AEF4-61400B83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2AC5-E39F-44F1-92EA-13A0A19C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7ED3-982C-419A-B7BE-BD793C22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AA3F-A01D-43F8-8469-147110D2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366D-D1C2-4454-BB9F-C3964228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078E-38E3-43D2-8EA3-B4F6AF82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3B52-7DB7-43C1-BB88-DD7ECAC8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7B4B-4A23-4A27-B48E-929F7D049C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КИСЛИТЕЛЬНО-ВОССТАНОВИТЕЛЬНЫЕ РЕАК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D:\ТАМАРА\D9 презентации все\картинки\картинки анемешки\Animated\J0076135.GIF"/>
          <p:cNvPicPr/>
          <p:nvPr/>
        </p:nvPicPr>
        <p:blipFill>
          <a:blip r:embed="rId1"/>
          <a:stretch/>
        </p:blipFill>
        <p:spPr>
          <a:xfrm>
            <a:off x="857160" y="3000240"/>
            <a:ext cx="750096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Изображение 107"/>
          <p:cNvPicPr/>
          <p:nvPr/>
        </p:nvPicPr>
        <p:blipFill>
          <a:blip r:embed="rId2"/>
          <a:stretch/>
        </p:blipFill>
        <p:spPr>
          <a:xfrm>
            <a:off x="214200" y="285840"/>
            <a:ext cx="864396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Изображение 108"/>
          <p:cNvPicPr/>
          <p:nvPr/>
        </p:nvPicPr>
        <p:blipFill>
          <a:blip r:embed="rId2"/>
          <a:stretch/>
        </p:blipFill>
        <p:spPr>
          <a:xfrm>
            <a:off x="357120" y="428760"/>
            <a:ext cx="864396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Изображение 108"/>
          <p:cNvPicPr/>
          <p:nvPr/>
        </p:nvPicPr>
        <p:blipFill>
          <a:blip r:embed="rId2"/>
          <a:stretch/>
        </p:blipFill>
        <p:spPr>
          <a:xfrm>
            <a:off x="571680" y="571680"/>
            <a:ext cx="79293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Изображение 108"/>
          <p:cNvPicPr/>
          <p:nvPr/>
        </p:nvPicPr>
        <p:blipFill>
          <a:blip r:embed="rId2"/>
          <a:stretch/>
        </p:blipFill>
        <p:spPr>
          <a:xfrm>
            <a:off x="357120" y="285840"/>
            <a:ext cx="85726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ажнейшие окислители и восстановите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Изображение 109"/>
          <p:cNvPicPr/>
          <p:nvPr/>
        </p:nvPicPr>
        <p:blipFill>
          <a:blip r:embed="rId2"/>
          <a:stretch/>
        </p:blipFill>
        <p:spPr>
          <a:xfrm>
            <a:off x="428760" y="1714680"/>
            <a:ext cx="83152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орные понятия теории ОВ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Что называется процессом восстановления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 изменяется степень окисления элемента при восстановлени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Что называется процессом окисления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ак изменяется степень окисления элемента при окислени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пределите понятие «восстановитель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Определите понятие «окислитель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Как предсказать функцию вещества по степени окисления элемент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Назовите важнейшие восстановители и окислите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Какие реакции называются окислительно-восстановительным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имические реак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Изображение 064"/>
          <p:cNvPicPr/>
          <p:nvPr/>
        </p:nvPicPr>
        <p:blipFill>
          <a:blip r:embed="rId2"/>
          <a:stretch/>
        </p:blipFill>
        <p:spPr>
          <a:xfrm>
            <a:off x="214200" y="285840"/>
            <a:ext cx="8501040" cy="5932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4"/>
          <p:cNvSpPr/>
          <p:nvPr/>
        </p:nvSpPr>
        <p:spPr>
          <a:xfrm>
            <a:off x="2500200" y="857160"/>
            <a:ext cx="17146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имические реак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1571760" y="1214280"/>
            <a:ext cx="5500440" cy="1556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зменению степени окисления атомов элем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357120" y="3643200"/>
            <a:ext cx="3929040" cy="10688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кислительно-восстанови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4643280" y="2714760"/>
            <a:ext cx="4286520" cy="1555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з изменения степени окисления атомов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им относятся все реакции ионного обмена, а также многие реакции соедин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Прямая со стрелкой 8"/>
          <p:cNvCxnSpPr/>
          <p:nvPr/>
        </p:nvCxnSpPr>
        <p:spPr>
          <a:xfrm flipH="1">
            <a:off x="2714400" y="2428920"/>
            <a:ext cx="786240" cy="9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8" name="Прямая со стрелкой 10"/>
          <p:cNvCxnSpPr/>
          <p:nvPr/>
        </p:nvCxnSpPr>
        <p:spPr>
          <a:xfrm>
            <a:off x="5643360" y="2428560"/>
            <a:ext cx="57204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99" name="Picture 2" descr="C:\Documents and Settings\Admin\Мои документы\Мои рисунки\Изображение\Изображение 075.jpg"/>
          <p:cNvPicPr/>
          <p:nvPr/>
        </p:nvPicPr>
        <p:blipFill>
          <a:blip r:embed="rId1"/>
          <a:stretch/>
        </p:blipFill>
        <p:spPr>
          <a:xfrm>
            <a:off x="4643280" y="4572000"/>
            <a:ext cx="4357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КИСЛИТЕЛЬНО-ВОССТАНОВИТЕЛЬНЫЕ РЕАК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2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кислительно-восстановительными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ют реакции, которые сопровождаются изменением степеней окисления химических элементов, входящих в состав реагентов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ассификация ОВ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5712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                                 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ВР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642960" y="2214720"/>
            <a:ext cx="2857320" cy="1557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и межмолекулярного окисления-восстанов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5072040" y="2286000"/>
            <a:ext cx="3643200" cy="1557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акции внутримолекулярного окисления-восстановл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428760" y="4643280"/>
            <a:ext cx="4143240" cy="1922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акции диспропорционирования, дисмутации или самоокисления-самовосстанов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5143680" y="44290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Прямая со стрелкой 8"/>
          <p:cNvCxnSpPr/>
          <p:nvPr/>
        </p:nvCxnSpPr>
        <p:spPr>
          <a:xfrm>
            <a:off x="5214600" y="2000160"/>
            <a:ext cx="42948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9" name="Прямая со стрелкой 10"/>
          <p:cNvCxnSpPr/>
          <p:nvPr/>
        </p:nvCxnSpPr>
        <p:spPr>
          <a:xfrm flipH="1">
            <a:off x="3285360" y="1927800"/>
            <a:ext cx="4294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Прямая со стрелкой 12"/>
          <p:cNvCxnSpPr/>
          <p:nvPr/>
        </p:nvCxnSpPr>
        <p:spPr>
          <a:xfrm flipH="1">
            <a:off x="4071600" y="2286000"/>
            <a:ext cx="286560" cy="221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кислитель и восстановит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кислителем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ют реагент, который принимает электроны в ходе окислительно-восстановительной реакции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сстановителем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ют реагент, который отдает электроны в ходе окислительно-восстановительной реакц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жмолекулярные реакции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цы- доноры электронов (восстановители) – и частицы- акцепторы электронов (окислители) – находятся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разных веществах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этому типу относится большинство ОВ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4" descr="C:\Documents and Settings\Admin\Мои документы\Мои рисунки\Изображение\Изображение 070.jpg"/>
          <p:cNvPicPr/>
          <p:nvPr/>
        </p:nvPicPr>
        <p:blipFill>
          <a:blip r:embed="rId1"/>
          <a:stretch/>
        </p:blipFill>
        <p:spPr>
          <a:xfrm>
            <a:off x="357120" y="3714840"/>
            <a:ext cx="8423280" cy="2857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утримолекулярные реак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ор электронов -  восстановитель- и акцептор электронов – окислитель – находятся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одном и том же веществ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4" descr="Изображение 071"/>
          <p:cNvPicPr/>
          <p:nvPr/>
        </p:nvPicPr>
        <p:blipFill>
          <a:blip r:embed="rId1"/>
          <a:stretch/>
        </p:blipFill>
        <p:spPr>
          <a:xfrm>
            <a:off x="1143000" y="3143160"/>
            <a:ext cx="6572160" cy="3571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акции дисмутации, или диспропорционирования, или самоокисления-самовосстанов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ы одного и того же элемента в веществе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полняют одновременно функции и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норов электронов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восстановителей)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акцепторов электронов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окислителей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реакции возможны для веществ, содержащих атомы химических элементов в промежуточной степени окисл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C:\Documents and Settings\Admin\Мои документы\Мои рисунки\Изображение\Изображение 072.jpg"/>
          <p:cNvPicPr/>
          <p:nvPr/>
        </p:nvPicPr>
        <p:blipFill>
          <a:blip r:embed="rId1"/>
          <a:stretch/>
        </p:blipFill>
        <p:spPr>
          <a:xfrm>
            <a:off x="857160" y="4071960"/>
            <a:ext cx="6786720" cy="2643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ставление окислительно-восстановительных реак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оставления окислительно-восстановительных реакций использую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) метод электронного балан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)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ставление уравнений окислительно-восстановительных реакций методом полуреакций, или ионно-электронным метод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ставление окислительно-восстановительных реакций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методом электронного балан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од основан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равнении степеней окисления атомов в исходных веществах и продуктах реакции и на балансировании числа электронов, смещаемых от восстановителя к окислителю.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од применяют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оставления уравнений реакций, протекающих в любых фазах. В этом универсальность и удобство мет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достаток метод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ри выражении сущности реакций, протекающих в растворах, не отражается существование реальных части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горитмическое предписание для составления уравнений    окислительно-восстановительных    реакций    методом электронного баланс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ь схему реак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пределить степени окисления элементов в реагентах и продуктах реак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пределить, является реакция окислительно-восстановительной или она протекает без изменения степеней окисления элементов. В первом случае выполнить все последующие опер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дчеркнуть элементы, степени, окисления которых изменяю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горитмическое предписание для составления уравнений    окислительно-восстановительных    реакций    методом электронного балан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пределить, какой элемент окисляется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его степень окисления повышается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какой элемент восстанавливается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его степень окисления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нижается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реак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В левой части схемы обозначить с помощью стрелок процесс окисления (смещения электронов от атома элемента) и процесс восстановления (смещения электронов к атому элемент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Определить восстановитель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атом элемента, от которого смещаются электроны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кислитель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атом элемента, к которому смещаются электроны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горитмическое предписание для составления уравнений    окислительно-восстановительных    реакций    методом электронного балан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Сбалансировать число электронов между окислителем и восстановител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Определить коэффициенты для окислителя и восстановителя, продуктов окисления и восстановл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Записать коэффициент перед формулой вещества, определяющего среду раство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Проверить уравнение реак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ставление уравнений окислительно-восстановительных реакций методом полуреакций, или ионно-электронным методом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од основан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ставлении ионно-электронных уравнений для процессов окисления и восстановления с учетом реально существующих частиц и последующим суммированием их в общее уравн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од применяетс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ыражения сущности окислительно-восстановительных реакций, протекающих только в раствор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стоинства мето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 электронно-ионных уравнениях полуреакций записываются ионы, реально существующие в водном растворе, а не условные частицы. (Например, ионы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не атом азота со степенью окисления +3 и атом серы со степенью окисления +4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нятие «степень окисления» не использует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и использовании этого метода не нужно знать все вещества: они определяются при выводе уравнения реак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идна роль среды как активного участника всего процесс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4" descr="Изображение 073"/>
          <p:cNvPicPr/>
          <p:nvPr/>
        </p:nvPicPr>
        <p:blipFill>
          <a:blip r:embed="rId1"/>
          <a:stretch/>
        </p:blipFill>
        <p:spPr>
          <a:xfrm>
            <a:off x="4214880" y="4643280"/>
            <a:ext cx="126036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этапы составления уравнений окислительно-восстановительных реакций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онно-электронным методом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 примере взаимодействия цинка с концентрированной азотной кислотой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аписываем ионную схему процесса, которая включает только восстановитель и продукт его окисления, и окислитель и продукт его восстановления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4" descr="Изображение 073"/>
          <p:cNvPicPr/>
          <p:nvPr/>
        </p:nvPicPr>
        <p:blipFill>
          <a:blip r:embed="rId1"/>
          <a:stretch/>
        </p:blipFill>
        <p:spPr>
          <a:xfrm>
            <a:off x="928800" y="4500720"/>
            <a:ext cx="741528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ЦЕСС ОКИСЛЕНИЯ И ВОССТАНОВ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кислением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ют процесс отдачи электронов атомом, молекулой или ионом, который сопровождается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вышением степени окислени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осстановлением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ют процесс присоединения электронов атомом, молекулой или ионом, который сопровождается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нижением степени окисления.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Изображение 074"/>
          <p:cNvPicPr/>
          <p:nvPr/>
        </p:nvPicPr>
        <p:blipFill>
          <a:blip r:embed="rId2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Изображение 07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Изображение 07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Изображение 077"/>
          <p:cNvPicPr/>
          <p:nvPr/>
        </p:nvPicPr>
        <p:blipFill>
          <a:blip r:embed="rId2"/>
          <a:srcRect l="-800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Изображение 07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а определения функции соединения в окислительно-восстановительных реакциях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Если элемент проявляет в соединении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сшую степень окисления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это соединение может быть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кислител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Если элемент проявляет в соединении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изшую степени окисления,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это соединение может быть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сстановител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сли элемент проявляет в соединении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межуточную степень окисления,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это соединение может быть как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новителем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и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кислител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Задан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кажите функции веществ в окислительно-восстановительных реакциях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Изображение 078"/>
          <p:cNvPicPr/>
          <p:nvPr/>
        </p:nvPicPr>
        <p:blipFill>
          <a:blip r:embed="rId1"/>
          <a:stretch/>
        </p:blipFill>
        <p:spPr>
          <a:xfrm>
            <a:off x="5000760" y="6072120"/>
            <a:ext cx="3851280" cy="480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Изображение 07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Изображение 107"/>
          <p:cNvPicPr/>
          <p:nvPr/>
        </p:nvPicPr>
        <p:blipFill>
          <a:blip r:embed="rId2"/>
          <a:stretch/>
        </p:blipFill>
        <p:spPr>
          <a:xfrm>
            <a:off x="0" y="142920"/>
            <a:ext cx="892980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21:13:28Z</dcterms:created>
  <dc:creator>Admin</dc:creator>
  <dc:description/>
  <dc:language>en-US</dc:language>
  <cp:lastModifiedBy>Admin</cp:lastModifiedBy>
  <dcterms:modified xsi:type="dcterms:W3CDTF">2012-12-19T10:51:24Z</dcterms:modified>
  <cp:revision>52</cp:revision>
  <dc:subject/>
  <dc:title>Слайд 1</dc:title>
</cp:coreProperties>
</file>